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91A-BC1C-494E-A5B8-686FC08D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B40-8175-47C3-BB75-C8268B0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98E-4EF8-407E-8F11-2E7EBCED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01D-B048-4AF6-821A-DB11192C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653-3A7A-4D9C-9B6B-40B0C73F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0B7-6FA1-426D-B067-CA8FD04F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F27-F50C-4951-877E-B7204344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87E-1EAB-4F46-82F4-F6D9695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E78-F557-4487-9ECE-BA2727FA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6DD-ADD4-438A-8A8D-05682EB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A2F-1557-43D9-A7F4-9901366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CEC-B00F-4ECC-96AC-B3C8517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24A-AD96-440E-B525-6598702B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Cj030984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66720" y="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Red, White, and Blue:  The Story of the American Fla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6*Week 2*Da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8600" y="0"/>
            <a:ext cx="8686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oday I will draw the biggest chalk picture of sailing ship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99"/>
                </a:solidFill>
                <a:latin typeface="Arial"/>
              </a:rPr>
              <a:t>I saw Paul as I walked to school last Monday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Did you wash the bait pails that we used when we caught fis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My parents always say it is okay to be afraid or scared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5050"/>
                </a:solidFill>
                <a:latin typeface="Arial"/>
              </a:rPr>
              <a:t>The teacher taught us to raise our hands before giving an answer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In August company came from faraway to stay with u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7:45:47Z</dcterms:created>
  <dc:creator>llefever</dc:creator>
  <dc:description/>
  <dc:language>en-US</dc:language>
  <cp:lastModifiedBy>teacher</cp:lastModifiedBy>
  <dcterms:modified xsi:type="dcterms:W3CDTF">2011-04-18T14:20:41Z</dcterms:modified>
  <cp:revision>3</cp:revision>
  <dc:subject/>
  <dc:title>Red, White, and Blue:  The Story of the American Fla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5639852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